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59EA-F7A6-4267-86C3-8C28673E6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158B-2796-43F9-80A3-242E9E22CC6B}" type="slidenum">
              <a:rPr b="1" lang="en-US" sz="1200" spc="-1" strike="noStrike">
                <a:solidFill>
                  <a:srgbClr val="3b3b3b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DB5F-BC0C-4BA5-8F93-5B120141C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41E1-3F3C-436D-B2D2-A2568689C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6582-A484-4056-B2E8-7A5FAD4A2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E232-4489-4E67-BC77-C4647C421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E084-53BE-4EED-B296-64A37A3B9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91D-2C7E-401D-A435-1F0705CAF9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239-94F3-445F-9761-843FBC8400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6E2-ABC5-4B45-B7CD-539B8CAEE6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503-DBCD-4791-9CAA-573ABEE74B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DEB7-EA95-49C3-8025-83C00EB893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6195-9EE4-4283-9B2D-BC4AE280DE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8DF-091E-4E54-B2FA-B6ED4E1842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D5F-7B59-4878-864E-4C75893AA8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52E-A953-43D6-B073-3C423D727D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D138-BCBE-4CA4-BA3B-899608E9B39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C81-1235-45D9-B0B3-561CCE8FD0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003-5139-4676-A44E-29EFE69C0E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7A3-B136-44E2-98D7-C57E9973E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0E6D-679B-4AAB-90B6-71FFC3575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6C1A-0321-4A3B-B1F9-A7EFE6DFC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E1FB-2320-405C-B89D-6582653BE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D7A0-4EA8-478A-9956-1BDBB9649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571B-F5C7-4507-9B23-B2BB98B8A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B387-8494-46BD-8E16-485C24312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32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2302-5600-4A82-8DCB-2773DA8246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© 2009 World Education Servic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5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1" name="Line 5"/>
          <p:cNvSpPr/>
          <p:nvPr/>
        </p:nvSpPr>
        <p:spPr>
          <a:xfrm>
            <a:off x="1447920" y="685800"/>
            <a:ext cx="0" cy="441972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42" name="Picture 9" descr="C:\Documents and Settings\andrewu\Desktop\images\logo'.png"/>
          <p:cNvPicPr/>
          <p:nvPr/>
        </p:nvPicPr>
        <p:blipFill>
          <a:blip r:embed="rId3"/>
          <a:stretch/>
        </p:blipFill>
        <p:spPr>
          <a:xfrm>
            <a:off x="6400800" y="4724280"/>
            <a:ext cx="2022480" cy="1401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5"/>
          <p:cNvSpPr/>
          <p:nvPr/>
        </p:nvSpPr>
        <p:spPr>
          <a:xfrm>
            <a:off x="762120" y="1219320"/>
            <a:ext cx="7619760" cy="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82" name="Picture 7" descr="C:\Documents and Settings\andrewu\Desktop\images\logo'.png"/>
          <p:cNvPicPr/>
          <p:nvPr/>
        </p:nvPicPr>
        <p:blipFill>
          <a:blip r:embed="rId3"/>
          <a:stretch/>
        </p:blipFill>
        <p:spPr>
          <a:xfrm>
            <a:off x="152280" y="6095880"/>
            <a:ext cx="932040" cy="646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78132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6410-62A6-4644-86B7-831709A6CC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4"/>
          </p:nvPr>
        </p:nvSpPr>
        <p:spPr>
          <a:xfrm>
            <a:off x="320004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© 2009 World Education Servic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76323"/>
                </a:solidFill>
                <a:latin typeface="Calibri"/>
                <a:ea typeface="Calibri"/>
              </a:rPr>
              <a:t>World Education Services</a:t>
            </a:r>
            <a:endParaRPr b="1" lang="en-US" sz="42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9984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#CdnImm March 2013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7161-36D2-4205-9633-7DF595AE899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73" name="Chart 7" descr=""/>
          <p:cNvPicPr/>
          <p:nvPr/>
        </p:nvPicPr>
        <p:blipFill>
          <a:blip r:embed="rId1"/>
          <a:stretch/>
        </p:blipFill>
        <p:spPr>
          <a:xfrm>
            <a:off x="304920" y="1311120"/>
            <a:ext cx="4876560" cy="41943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8"/>
          <p:cNvSpPr/>
          <p:nvPr/>
        </p:nvSpPr>
        <p:spPr>
          <a:xfrm>
            <a:off x="304920" y="134784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Did you gain admission to any of the academic institutions where you submitted your WES evaluation report?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4952880" y="244476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About  half of the clients who were not admitted believed that their </a:t>
            </a:r>
            <a:r>
              <a:rPr b="1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foreign education was not recognized</a:t>
            </a:r>
            <a:br>
              <a:rPr sz="1800"/>
            </a:br>
            <a:r>
              <a:rPr b="1" lang="en-US" sz="1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85% of clients believe a WES report helped them achieve education and career goals</a:t>
            </a:r>
            <a:br>
              <a:rPr sz="1800"/>
            </a:br>
            <a:r>
              <a:rPr b="0" lang="en-US" sz="1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ssessment &amp; Recognition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ES Basic Reports</a:t>
            </a: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	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Document-by-Document (DxD)</a:t>
            </a:r>
            <a:br>
              <a:rPr sz="32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Recommended for employment, immigration/work visa permits, and entry to apprenticeship training program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Course-by-Course (CxC)</a:t>
            </a:r>
            <a:br>
              <a:rPr sz="3200"/>
            </a:br>
            <a:r>
              <a:rPr b="0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** includes DxD</a:t>
            </a:r>
            <a:br>
              <a:rPr sz="20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Recommended for higher or continuing education and some licensure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AB61-1908-4950-B7C3-B6664C00730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Required Docum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62120" y="15998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Helps ensure recognition and portability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Calibri"/>
                <a:ea typeface="Calibri"/>
              </a:rPr>
              <a:t>http://www.wes.org/ca/required/index.asp</a:t>
            </a:r>
            <a:br>
              <a:rPr sz="2800"/>
            </a:br>
            <a:r>
              <a:rPr b="0" lang="en-US" sz="2800" spc="-1" strike="noStrike">
                <a:solidFill>
                  <a:srgbClr val="2626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ountry specific requirement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Authentication Statement on evaluation report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762B-5053-4D18-BF83-FFDD05A019F7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Document-by-Document (DxD)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819F-2F08-4E6A-A904-20888452DF4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88" name="Picture 6" descr="658775 China Sample_1.jpg"/>
          <p:cNvPicPr/>
          <p:nvPr/>
        </p:nvPicPr>
        <p:blipFill>
          <a:blip r:embed="rId1"/>
          <a:srcRect l="6781" t="8063" r="5086" b="10684"/>
          <a:stretch/>
        </p:blipFill>
        <p:spPr>
          <a:xfrm>
            <a:off x="2286000" y="1295280"/>
            <a:ext cx="4537080" cy="5410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ourse-by-Course (CxC)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8468-6DCB-49D6-927E-E657CFA8BE8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92" name="Content Placeholder 6" descr="658775 China Sample_2.jpg"/>
          <p:cNvPicPr/>
          <p:nvPr/>
        </p:nvPicPr>
        <p:blipFill>
          <a:blip r:embed="rId1"/>
          <a:srcRect l="8297" t="5011" r="0" b="2373"/>
          <a:stretch/>
        </p:blipFill>
        <p:spPr>
          <a:xfrm>
            <a:off x="2590920" y="1260360"/>
            <a:ext cx="4190760" cy="5473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76323"/>
                </a:solidFill>
                <a:latin typeface="Calibri"/>
                <a:ea typeface="Calibri"/>
              </a:rPr>
              <a:t>International Credential Advantage Package</a:t>
            </a:r>
            <a:endParaRPr b="1" lang="en-US" sz="35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6212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Enhanced report: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ICAP DxD or ICAP CxC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tores verified academic transcripts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Delivers to institutions/licensing bodies in one complete package: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* </a:t>
            </a: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verified transcripts </a:t>
            </a:r>
            <a:r>
              <a:rPr b="1" i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and</a:t>
            </a: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 evaluation report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6F1E-6066-426E-963A-600D4086845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ES Degree Equivalency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48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Free and instant preview (look-up) of post-secondary academic credentials without submitting any document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Degree Preview lin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alibri"/>
                <a:ea typeface="Calibri"/>
              </a:rPr>
              <a:t>http://www.wes.org/ca/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01EF-66D6-4E6A-AA0C-5F438B813FD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Q &amp; A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1406-B056-420D-980F-2BAD03B2215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205" name="Rectangle 9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4668840" cy="7858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609480" y="2438280"/>
            <a:ext cx="64771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arah Hua</a:t>
            </a:r>
            <a:br>
              <a:rPr sz="2800"/>
            </a:br>
            <a:r>
              <a:rPr b="1" lang="en-US" sz="1600" spc="-1" strike="noStrike">
                <a:solidFill>
                  <a:srgbClr val="3b3b3b"/>
                </a:solidFill>
                <a:latin typeface="Calibri"/>
                <a:ea typeface="Calibri"/>
              </a:rPr>
              <a:t>International Education Recognition Advisor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416.972.0070 x5244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hua@wes.org</a:t>
            </a: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World Education Services (WES)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2 Carlton Street, Suite 1400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Toronto, ON M5B 1J3</a:t>
            </a: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Outline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ssessment vs. Recognition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ssessment services in Canada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bout WES clients’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WES Documentation Requirements &amp; Services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5BA2-4743-44EC-9562-77BCF765917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Barriers to Succes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96FF-A087-4B66-B1A9-A01888D95A0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39" name="Content Placeholder 5" descr=""/>
          <p:cNvPicPr/>
          <p:nvPr/>
        </p:nvPicPr>
        <p:blipFill>
          <a:blip r:embed="rId1"/>
          <a:stretch/>
        </p:blipFill>
        <p:spPr>
          <a:xfrm>
            <a:off x="384120" y="1298520"/>
            <a:ext cx="8461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hat is Credential Evaluation?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Evaluations VS Recognition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redential Evaluation</a:t>
            </a:r>
            <a:br>
              <a:rPr sz="2400"/>
            </a:br>
            <a:r>
              <a:rPr b="0" lang="en-US" sz="2700" spc="-1" strike="noStrike">
                <a:solidFill>
                  <a:srgbClr val="3b3b3b"/>
                </a:solidFill>
                <a:latin typeface="Calibri"/>
                <a:ea typeface="Calibri"/>
              </a:rPr>
              <a:t>International academic credentials comparison to Canadian standard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b3b3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3b3b"/>
                </a:solidFill>
                <a:latin typeface="Calibri"/>
                <a:ea typeface="Calibri"/>
              </a:rPr>
              <a:t>May include validation of documents</a:t>
            </a: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b3b3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redential Recognition</a:t>
            </a:r>
            <a:br>
              <a:rPr sz="2400"/>
            </a:br>
            <a:r>
              <a:rPr b="0" lang="en-US" sz="2700" spc="-1" strike="noStrike">
                <a:solidFill>
                  <a:srgbClr val="3b3b3b"/>
                </a:solidFill>
                <a:latin typeface="Calibri"/>
                <a:ea typeface="Calibri"/>
              </a:rPr>
              <a:t>Acceptance of international academic credentials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4563-9C0A-4785-97D1-786944F163F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Assessment Service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14475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essment services are used by: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cademic institution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licensing bodie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employer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 training program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immigratio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derstanding who gives credential recognition can help  with accurate advisement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2A4E-D7DD-4E56-BF06-7EA8354B41A7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Evaluation Service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pic>
        <p:nvPicPr>
          <p:cNvPr id="150" name="Content Placeholder 5" descr=""/>
          <p:cNvPicPr/>
          <p:nvPr/>
        </p:nvPicPr>
        <p:blipFill>
          <a:blip r:embed="rId1"/>
          <a:stretch/>
        </p:blipFill>
        <p:spPr>
          <a:xfrm>
            <a:off x="1143000" y="2009880"/>
            <a:ext cx="6477120" cy="441144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CC69-77ED-4998-AA0B-43A571F77A77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914400" y="12952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7 Agencies in Canada (canalliance.org); 3 in Ontario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http://www.cicic.ca/504/comparative-chart.canada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WES Cli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98E1-675F-4A36-800A-9F2B05E1C43A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BD32-0986-4D76-9AAD-5E16B6544644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97180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58" name="Chart 10" descr=""/>
          <p:cNvPicPr/>
          <p:nvPr/>
        </p:nvPicPr>
        <p:blipFill>
          <a:blip r:embed="rId1"/>
          <a:stretch/>
        </p:blipFill>
        <p:spPr>
          <a:xfrm>
            <a:off x="558720" y="1320840"/>
            <a:ext cx="77216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WES Cli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045B-6F6A-41EF-8A06-CD8C3A60941E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62" name="Chart 5" descr=""/>
          <p:cNvPicPr/>
          <p:nvPr/>
        </p:nvPicPr>
        <p:blipFill>
          <a:blip r:embed="rId1"/>
          <a:stretch/>
        </p:blipFill>
        <p:spPr>
          <a:xfrm>
            <a:off x="378000" y="1444680"/>
            <a:ext cx="5803560" cy="42796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0"/>
          <p:cNvSpPr/>
          <p:nvPr/>
        </p:nvSpPr>
        <p:spPr>
          <a:xfrm>
            <a:off x="509760" y="1581120"/>
            <a:ext cx="53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Highest Level of Education Attained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248520" y="3097080"/>
            <a:ext cx="26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3b3b"/>
                </a:solidFill>
                <a:latin typeface="Calibri"/>
                <a:ea typeface="Calibri"/>
              </a:rPr>
              <a:t>Majority in business, management, health and engineering</a:t>
            </a:r>
            <a:endParaRPr b="1" lang="en-US" sz="2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76323"/>
                </a:solidFill>
                <a:latin typeface="Calibri"/>
                <a:ea typeface="Calibri"/>
              </a:rPr>
              <a:t>Higher or Continuing Education</a:t>
            </a:r>
            <a:endParaRPr b="1" lang="en-US" sz="39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371240"/>
            <a:ext cx="838224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b3b3b"/>
                </a:solidFill>
                <a:latin typeface="Calibri"/>
                <a:ea typeface="Calibri"/>
              </a:rPr>
              <a:t>For every institution, there are program specific requirements for credential evaluation</a:t>
            </a: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b3b3b"/>
                </a:solidFill>
                <a:latin typeface="Calibri"/>
                <a:ea typeface="Calibri"/>
              </a:rPr>
              <a:t>Always check the specific program’s requirements!</a:t>
            </a:r>
            <a:br>
              <a:rPr sz="2900"/>
            </a:br>
            <a:r>
              <a:rPr b="1" lang="en-US" sz="29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9B4D-243C-478F-ADAF-9AFA3B2F29C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124080" y="3693960"/>
            <a:ext cx="4191120" cy="2845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 rot="20790600">
            <a:off x="1568160" y="3673080"/>
            <a:ext cx="23241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20:16:31Z</dcterms:created>
  <dc:creator/>
  <dc:description/>
  <dc:language>en-US</dc:language>
  <cp:lastModifiedBy>Sarah Hua</cp:lastModifiedBy>
  <dcterms:modified xsi:type="dcterms:W3CDTF">2013-03-07T17:08:14Z</dcterms:modified>
  <cp:revision>248</cp:revision>
  <dc:subject/>
  <dc:title>2010 WES INFO SESSIONS - APPLICANTS</dc:title>
</cp:coreProperties>
</file>